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5F06F-CBE1-4A6D-8B43-68253991B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Function Transformations Unit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For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n Algebra 2 Course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 Project Funded by the National Science Foundation,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nd written by Kirk Taylor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 Transformations 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lgebra 2 Cour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roject Funded by the National Science Founda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ritten by Kirk Tay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Practice makes pretty good!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Evening Enrichment Opportuniti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makes pretty goo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ing Enrichment Opportun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ssessment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Teacher observation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ssessment Tool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 observ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Teacher Observations</a:t>
            </a: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ccuracy of sketch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Verbal feedback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tudent interaction and peer instruction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 Observa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uracy of sket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bal 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 interaction and peer i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ssessment Tool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In-class demonstration and presentation of student work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Verbal CFU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Quizzes and test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lternative Assessment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.A. Rubric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-class demonstration and presentation of student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bal CF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zzes and t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ive Assess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A. Rub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FTU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Quadratics and Polynomial Function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Exponential Function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ymbolic Language Fluency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How Does an FTU Fit In?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dratics and Polynomial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nential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ic Language Flu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an FTU Fit 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Thanks! It was great!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! It was grea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Why?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NCTM Standards and California Content Standards call for all students to have skill in function transformation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Most Algebra 2 curriculums teach it, but not as a cohesive and comprehensive set of principle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It gives students the power and knowledge to transform many types of function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CTM Standards and California Content Standards call for all students to have skill in function transform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Algebra 2 curriculums teach it, but not as a cohesive and comprehensive set of princip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gives students the power and knowledge to transform many type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Transform = Chang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Graphs are pictures of relationship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Mathematics is a symbolic language of relationship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orm =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 are pictures of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s is a symbolic language of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Goal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Teach the rules of FT as a single comprehensive set of principl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Not add time to the Algebra 2 calendar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Use simple, low-technology and graphing calculators to give students confidence with function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 the rules of FT as a single comprehensive set of princi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dd time to the Algebra 2 calend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simple, low-technology and graphing calculators to give students confidence with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Learning Objectives</a:t>
            </a: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tudents will learn to recognize by shape a group of six function families: Quadratic, Cubic, Absolute Value, Square Root, Exponential and Linear, and to learn the name of a ‘locator point’ for each family. 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tudents will learn the rules for function transformation, and be able to apply them to all six function families. They will be able to make accurate sketches of function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tudents will be able to correctly identify to what degree functions have been translated, reflected, and/or stretched/compressed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tudents will increase their fluency with function notation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will learn to recognize by shape a group of six function families: Quadratic, Cubic, Absolute Value, Square Root, Exponential and Linear, and to learn the name of a ‘locator point’ for each famil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will learn the rules for function transformation, and be able to apply them to all six function families. They will be able to make accurate sketche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will be able to correctly identify to what degree functions have been translated, reflected, and/or stretched/compres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will increase their fluency with function no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Other Learning Objectives for the FTU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More math vocabulary: asymptote, increasing/decreasing function, odd/even function, inflection point, point symmetry, and more.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Better curve-sketching techniqu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Establish foundations for further study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Learning Objectives for the FT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math vocabulary: asymptote, increasing/decreasing function, odd/even function, inflection point, point symmetry, and mo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ter curve-sketching techniq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 foundations for further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Unit Overview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Introducing the Big 6: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Quadratic   Sketching Techniqu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Cubic</a:t>
            </a: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Generalizing       power function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bsolute Value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quare Root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Exponential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Linear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the Big 6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dratic   Sketching Techniq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izing       power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Valu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 R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nent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Guided Inquiry Activiti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Work collaboratively under well-defined guidelin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Make conclusions and conjectures based on experienc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The Student’s Rol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d Inquiry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 collaboratively under well-defined guide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conclusions and conjectures based on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udent’s R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Guided Inquiry Activiti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et clear rules for collaboration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et time limit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ummarize points of the activity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ssess students’ understanding and modify lessons as necessary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The Teacher’s Rol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d Inquiry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clear rules for collabo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time lim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ize points of the 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 students’ understanding and modify lessons as 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acher’s R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4E07-4B21-48D5-828A-955DBFCCB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2B96-4951-46A8-B45B-11858D847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8675-63DD-4D18-A12E-96A4082B5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6EB5-FE4B-4344-AB2B-04AFBEEE1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77001-6C7C-4F34-B13D-7A280856D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15387-DD90-4401-8DEC-752B8058E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F5D26-4A8D-4794-81BA-6E2B58BBE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6438D-A475-47E1-B05B-07CE6B548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DADCE-1A34-43E3-A6C1-D37794A73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2958E-AA8E-4A3B-85F7-427152843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3445D-094C-4488-9083-77A6DC88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EBF5-6D92-49D3-8A77-071F29217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23711-213E-4935-973E-BA42F601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D5614-F420-49B0-8564-48BE1AA1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30AC2-B7AF-49ED-B0A0-C0B11E680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59BD3-D50D-4864-A8FD-37C21D90C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B1D7B-DA82-428E-A8DE-C1C4B81FE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0912F-59B4-4A0B-8CFE-2A249C487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A51CA-3942-4708-B09B-B9782EC52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03BEB-D859-4260-B3F2-E54876279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70737-7CFB-4CBB-9E34-795885F13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2923B-A524-4EC6-A748-D579EECD9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D8DB-0A31-455F-BEDF-94146A8F9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DAA2F-0339-4707-8A2B-FF2387453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58B7A-6BD9-4EC3-958C-B30E1D65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B5089-F1CE-4E9F-AFFF-37A090FC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81562-2ACB-472D-9031-39503D31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F82C0-6EBE-4FEE-93A2-984CFB95C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2EF10-AA20-461D-A78C-AF0AAC7F0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DD8D4-47BC-4A70-A2E4-0C76CE551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BE81B-A64B-4508-8DE0-9AEC165B8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5F13D-C664-4A7E-996D-0CBFE8122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15F1C-AA51-42CB-96F5-AC7DAD4E7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E91E-B95F-47D4-B879-CA8F40BE3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D1425-88FD-4776-BED2-38C3639F8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8085D-6305-4254-B1E7-E8B55685A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5C1C3-E5C7-447C-A851-92A03B9AC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DD26F-5FA8-4257-88CD-080DCBDE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06FAF-B299-4347-B4A7-3E8D26CC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0B001-C42F-465F-A4A1-010EE841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0CFFB-5E2E-48CE-8E33-7318573DB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75681-57E5-4BA2-96F1-CFAD3CA5F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7D7A0-85B5-4A11-B1A4-CB9492211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DA60C-4DA6-4BC9-962B-8570FD151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B0D6-DF67-4B55-8EE8-828B4282F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CE836-3DC8-4544-A02F-E07B6AD29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5D20E-0C9A-446A-B84E-62C9A05BB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9C45D-7D9F-465D-BCCA-BD082F577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11969-2A11-4973-9A93-D154CB30E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AD64E-0784-4076-86BC-A5BF54C88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4BFA6-F7A7-46D7-A372-930D349C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8946E-5525-4329-BCCB-E308CA70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8DBE9-9AAE-483C-B8FB-A1174C9A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AF72C-86D2-4755-AF20-7665AE9CC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35F79-4844-4792-8C0C-977AE90E5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7ECC-BCD3-49CF-8288-0C0297617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47325-36B6-4793-9C35-16D05CEB8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F0044-0DC4-402C-B669-0B519CE54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93FA4C-C2A4-49F0-ABA7-415CFD951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0EBFB-250E-4FB8-9DCB-4279F4C5F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7CC80-8DDC-4C9A-8620-C4DAC82A9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85370-8C8E-4A0D-99AC-689A76BC1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91EE4-24A1-4B44-8B26-67B838D38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BB27A9-A6AC-42C0-8DD0-B2009AF9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9E0E2-771C-4E9C-9CFF-6C0DDE2E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5F6569-7E67-45BE-94EC-19FD8F97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BB33-544D-4D42-BBD6-95C141DA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30342-7FA6-4E4C-9BC8-2D6476D88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3AE62D-BC80-4DDB-8E2D-358D62112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BDEB1-7B61-405D-8AA9-116241893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A8ECD4-908D-4B6C-9F89-024F772B4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87E742-F53F-45AA-999F-F1904D544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3D846C-48F4-4674-8E89-5A51FCF16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2C0EED-D99C-4294-921F-E609FB7D5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DFCDA2-58F4-44A4-8E69-99F745D91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1E6DA2-0922-4F70-B6AA-B01BD1B47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27AE09-BA05-4DFB-95D8-C2286BF4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1C0C-2232-4415-8F35-AE0B0EAA8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1F6866-D624-49E5-9AEC-D6949FA5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1B4087-3970-4953-B54A-C63C00C3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843CEB-8A1A-4C2F-91E2-DC70B4F5D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59DA69-81FE-4486-94A5-2F352F163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65BDB5-C8C0-4A3C-BD24-6C632A20A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3E5E5B-D63D-4AB4-A3A6-AA4D2EE1B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404E11-5ECB-4E18-B08D-B610B6410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4F5B64-17FF-4FDE-AA58-6DE338E15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C64B30-7712-44F5-8F82-DA1CE3A41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6E784A-B8DE-4113-AB11-84B78ABF1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E70F-62E1-4B46-824B-8D1587A5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4F08C2-B406-4C59-8815-A47F6030A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4D7B19-2DD0-4883-8F92-B95E2673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334641-CE33-4141-8A86-24366533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38B267-CC6C-457D-BE0F-D367A488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45EBB4-9A8D-4F40-B8C3-F6ABC2EA1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D2E58-ECC9-4F60-B673-DDF66C096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00C5A6-5712-4FD6-98D8-09868A56B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9A6E6-0F91-4641-9BF8-568F9E4905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E3EB4-7FD8-4528-B194-E4893697D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0FC11-DAA8-4730-B46E-0365A1A01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043A7-8AB4-4F96-A226-62446AE6A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226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27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28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29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0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1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2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3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4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5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6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7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8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9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40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203EF-270E-466B-915B-97829EDFA84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8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8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28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28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3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33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33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4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4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4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34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34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4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46" name="Arc 66"/>
              <p:cNvSpPr/>
              <p:nvPr/>
            </p:nvSpPr>
            <p:spPr>
              <a:xfrm rot="5400000">
                <a:off x="809064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BF9D5-FB62-47DD-A8D0-C32087654D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20D3A-E4BA-48A3-B245-6C10503875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43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A4174-0278-46A4-A40A-932EE896F22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unction Transformations Uni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990720" y="3047760"/>
            <a:ext cx="64008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For 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An Algebra 2 Course 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 Project Funded by the National Science Foundation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nd written by Kirk Taylo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96" name="Picture 5" descr="Pupfish"/>
          <p:cNvPicPr/>
          <p:nvPr/>
        </p:nvPicPr>
        <p:blipFill>
          <a:blip r:embed="rId1"/>
          <a:stretch/>
        </p:blipFill>
        <p:spPr>
          <a:xfrm>
            <a:off x="1066680" y="1219320"/>
            <a:ext cx="1086120" cy="637920"/>
          </a:xfrm>
          <a:prstGeom prst="rect">
            <a:avLst/>
          </a:prstGeom>
          <a:ln w="0">
            <a:noFill/>
          </a:ln>
        </p:spPr>
      </p:pic>
      <p:sp>
        <p:nvSpPr>
          <p:cNvPr id="4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07495E-006 C 0.02292 -0.01781 0.04584 -0.03539 0.06372 -0.04395 C 0.0816 -0.05251 0.09393 -0.05043 0.10764 -0.05136 C 0.12136 -0.05228 0.13247 -0.05621 0.14618 -0.04974 C 0.1599 -0.04326 0.17344 -0.02822 0.19011 -0.0118 C 0.20677 0.00462 0.2316 0.0384 0.24618 0.04834 C 0.26077 0.05829 0.26459 0.05019 0.27795 0.04834 C 0.29132 0.04649 0.31476 0.04464 0.32639 0.03655 C 0.33802 0.02845 0.34063 0.01018 0.34722 2.07495E-006 C 0.35382 -0.01018 0.35955 -0.0199 0.3658 -0.02498 C 0.37205 -0.03007 0.37882 -0.02984 0.38455 -0.03077 C 0.39028 -0.03169 0.39028 -0.03401 0.4 -0.03077 C 0.40972 -0.02753 0.43316 -0.01573 0.44288 -0.0118 C 0.45261 -0.00787 0.44931 -0.01203 0.45816 -0.0074 C 0.46702 -0.00278 0.48577 0.01203 0.49549 0.01596 C 0.50521 0.01989 0.50938 0.02567 0.5165 0.01596 C 0.52361 0.00624 0.53247 -0.03031 0.53837 -0.04257 C 0.54427 -0.05483 0.5467 -0.05297 0.55157 -0.05714 C 0.55643 -0.0613 0.56233 -0.0657 0.56806 -0.06732 C 0.57379 -0.06894 0.5783 -0.06755 0.58559 -0.06732 C 0.59288 -0.06709 0.60643 -0.06662 0.61198 -0.06593 C 0.61754 -0.06523 0.61754 -0.06338 0.61858 -0.06292 E">
                                      <p:cBhvr>
                                        <p:cTn id="40" dur="2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c1eb"/>
                </a:solidFill>
                <a:latin typeface="Tahoma"/>
              </a:rPr>
              <a:t>Practice makes pretty good!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99"/>
                </a:solidFill>
                <a:latin typeface="Tahoma"/>
              </a:rPr>
              <a:t>Evening Enrichment Opportunities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3" name="AutoShape 4"/>
          <p:cNvSpPr/>
          <p:nvPr/>
        </p:nvSpPr>
        <p:spPr>
          <a:xfrm rot="21024600">
            <a:off x="1836360" y="2614680"/>
            <a:ext cx="1290600" cy="1092240"/>
          </a:xfrm>
          <a:prstGeom prst="smileyFace">
            <a:avLst>
              <a:gd name="adj" fmla="val 1296"/>
            </a:avLst>
          </a:prstGeom>
          <a:solidFill>
            <a:srgbClr val="00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4" name="AutoShape 5"/>
          <p:cNvSpPr/>
          <p:nvPr/>
        </p:nvSpPr>
        <p:spPr>
          <a:xfrm rot="648000">
            <a:off x="5857920" y="2704680"/>
            <a:ext cx="1295280" cy="1067040"/>
          </a:xfrm>
          <a:prstGeom prst="smileyFace">
            <a:avLst>
              <a:gd name="adj" fmla="val 1370"/>
            </a:avLst>
          </a:prstGeom>
          <a:solidFill>
            <a:srgbClr val="00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7" dur="10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c6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7684920" cy="11937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pperplate Gothic Bold"/>
              </a:rPr>
              <a:t>Assessment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acher observ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essment Too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eacher Observations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uracy of sket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bal feedb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 interaction and peer instr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ssessment Tool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-class demonstration and presentation of student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bal CF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izzes and te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ternative Assess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A. Rubr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40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4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3" dur="2000"/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4"/>
          <p:cNvSpPr/>
          <p:nvPr/>
        </p:nvSpPr>
        <p:spPr>
          <a:xfrm>
            <a:off x="1371600" y="4267080"/>
            <a:ext cx="129528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8" name="Rectangle 5"/>
          <p:cNvSpPr/>
          <p:nvPr/>
        </p:nvSpPr>
        <p:spPr>
          <a:xfrm>
            <a:off x="4038480" y="4343400"/>
            <a:ext cx="10670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9" name="Rectangle 6"/>
          <p:cNvSpPr/>
          <p:nvPr/>
        </p:nvSpPr>
        <p:spPr>
          <a:xfrm>
            <a:off x="6477120" y="4343400"/>
            <a:ext cx="12952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0" name="Rectangle 7"/>
          <p:cNvSpPr/>
          <p:nvPr/>
        </p:nvSpPr>
        <p:spPr>
          <a:xfrm>
            <a:off x="3733920" y="1447920"/>
            <a:ext cx="15238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1" name="Text Box 8"/>
          <p:cNvSpPr/>
          <p:nvPr/>
        </p:nvSpPr>
        <p:spPr>
          <a:xfrm>
            <a:off x="3733920" y="403848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0458c"/>
                </a:solidFill>
                <a:latin typeface="Albertus Extra Bold"/>
              </a:rPr>
              <a:t>FTU</a:t>
            </a:r>
            <a:endParaRPr b="0" lang="en-US" sz="5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2" name="Text Box 9"/>
          <p:cNvSpPr/>
          <p:nvPr/>
        </p:nvSpPr>
        <p:spPr>
          <a:xfrm>
            <a:off x="1371600" y="3886200"/>
            <a:ext cx="1295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Quadratics and Polynomial Function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3" name="Text Box 10"/>
          <p:cNvSpPr/>
          <p:nvPr/>
        </p:nvSpPr>
        <p:spPr>
          <a:xfrm>
            <a:off x="6248520" y="39625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ekton"/>
              </a:rPr>
              <a:t>Exponential Function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4" name="Text Box 11"/>
          <p:cNvSpPr/>
          <p:nvPr/>
        </p:nvSpPr>
        <p:spPr>
          <a:xfrm>
            <a:off x="3733920" y="1600200"/>
            <a:ext cx="1676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58c"/>
                </a:solidFill>
                <a:latin typeface="ITC Avant Garde Gothic"/>
              </a:rPr>
              <a:t>Symbolic Language Fluency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5" name="WordArt 12"/>
          <p:cNvSpPr txBox="1"/>
          <p:nvPr/>
        </p:nvSpPr>
        <p:spPr>
          <a:xfrm>
            <a:off x="1805040" y="2971800"/>
            <a:ext cx="5815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28440">
                  <a:solidFill>
                    <a:srgbClr val="0066ff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How Does an FTU Fit In?</a:t>
            </a:r>
            <a:endParaRPr b="0" lang="en-US" sz="3200" spc="1" strike="noStrike">
              <a:ln w="28440">
                <a:solidFill>
                  <a:srgbClr val="0066ff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5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5" descr="2076497200030222410lSThCs_ph"/>
          <p:cNvPicPr/>
          <p:nvPr/>
        </p:nvPicPr>
        <p:blipFill>
          <a:blip r:embed="rId1"/>
          <a:srcRect l="14508" t="14381" r="16469" b="18469"/>
          <a:stretch/>
        </p:blipFill>
        <p:spPr>
          <a:xfrm>
            <a:off x="304920" y="1143000"/>
            <a:ext cx="6705360" cy="4800600"/>
          </a:xfrm>
          <a:prstGeom prst="rect">
            <a:avLst/>
          </a:prstGeom>
          <a:ln w="0">
            <a:noFill/>
          </a:ln>
        </p:spPr>
      </p:pic>
      <p:sp>
        <p:nvSpPr>
          <p:cNvPr id="568" name="Text Box 6"/>
          <p:cNvSpPr/>
          <p:nvPr/>
        </p:nvSpPr>
        <p:spPr>
          <a:xfrm>
            <a:off x="685800" y="380880"/>
            <a:ext cx="647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Tahoma"/>
              </a:rPr>
              <a:t>Thanks! It was great!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xit" presetID="6" presetSubtype="16">
                                  <p:stCondLst>
                                    <p:cond delay="800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41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c1eb"/>
                </a:solidFill>
                <a:latin typeface="Tahoma"/>
              </a:rPr>
              <a:t>Why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CTM Standards and California Content Standards call for all students to have skill in function transformation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ost Algebra 2 curriculums teach it, but not as a cohesive and comprehensive set of principl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t gives students the power and knowledge to transform many types of function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2"/>
          <p:cNvSpPr/>
          <p:nvPr/>
        </p:nvSpPr>
        <p:spPr>
          <a:xfrm rot="21260400">
            <a:off x="0" y="8380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Transform = </a:t>
            </a:r>
            <a:r>
              <a:rPr b="0" lang="en-US" sz="3600" spc="-1" strike="noStrike">
                <a:solidFill>
                  <a:srgbClr val="40458c"/>
                </a:solidFill>
                <a:latin typeface="Snap ITC"/>
              </a:rPr>
              <a:t>Change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2" name="Text Box 3"/>
          <p:cNvSpPr/>
          <p:nvPr/>
        </p:nvSpPr>
        <p:spPr>
          <a:xfrm>
            <a:off x="228600" y="198108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Graphs are pictures of relationship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503" name="Picture 4" descr="worldpop2050"/>
          <p:cNvPicPr/>
          <p:nvPr/>
        </p:nvPicPr>
        <p:blipFill>
          <a:blip r:embed="rId1"/>
          <a:stretch/>
        </p:blipFill>
        <p:spPr>
          <a:xfrm>
            <a:off x="838080" y="2438280"/>
            <a:ext cx="2667240" cy="238140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5" descr="daln195l"/>
          <p:cNvPicPr/>
          <p:nvPr/>
        </p:nvPicPr>
        <p:blipFill>
          <a:blip r:embed="rId2"/>
          <a:stretch/>
        </p:blipFill>
        <p:spPr>
          <a:xfrm>
            <a:off x="4952880" y="2362320"/>
            <a:ext cx="2743200" cy="2098440"/>
          </a:xfrm>
          <a:prstGeom prst="rect">
            <a:avLst/>
          </a:prstGeom>
          <a:ln w="0">
            <a:noFill/>
          </a:ln>
        </p:spPr>
      </p:pic>
      <p:sp>
        <p:nvSpPr>
          <p:cNvPr id="505" name="Text Box 6"/>
          <p:cNvSpPr/>
          <p:nvPr/>
        </p:nvSpPr>
        <p:spPr>
          <a:xfrm>
            <a:off x="533520" y="4876920"/>
            <a:ext cx="7696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athematics is a symbolic language of relationship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6" name="Object 7"/>
              <p:cNvSpPr txBox="1"/>
              <p:nvPr/>
            </p:nvSpPr>
            <p:spPr>
              <a:xfrm>
                <a:off x="1828800" y="5410080"/>
                <a:ext cx="5334120" cy="6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Tahoma"/>
              </a:rPr>
              <a:t>Goa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each the rules of FT as a single comprehensive set of princip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t add time to the Algebra 2 calendar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e simple, low-technology and graphing calculators to give students confidence with func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earning Objectiv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Students will learn to recognize by shape a group of six function families: Quadratic, Cubic, Absolute Value, Square Root, Exponential and Linear, and to learn the name of a ‘locator point’ for each famil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will learn the rules for function transformation, and be able to apply them to all six function families. They will be able to make accurate sketches of fun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ents will be able to correctly identify to what degree functions have been translated, reflected, and/or stretched/compres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ents will increase their fluency with function no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Other Learning Objectives for the FTU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ore math vocabulary: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asymptote, increasing/decreasing function, odd/even function, inflection point, point symmetry,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and more.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etter curve-sketching techniqu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tablish foundations for further stud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516" name="Group 15"/>
          <p:cNvGrpSpPr/>
          <p:nvPr/>
        </p:nvGrpSpPr>
        <p:grpSpPr>
          <a:xfrm>
            <a:off x="2133720" y="2895480"/>
            <a:ext cx="3885840" cy="1447920"/>
            <a:chOff x="2133720" y="2895480"/>
            <a:chExt cx="3885840" cy="1447920"/>
          </a:xfrm>
        </p:grpSpPr>
        <p:grpSp>
          <p:nvGrpSpPr>
            <p:cNvPr id="517" name="Group 5"/>
            <p:cNvGrpSpPr/>
            <p:nvPr/>
          </p:nvGrpSpPr>
          <p:grpSpPr>
            <a:xfrm>
              <a:off x="2133720" y="2895480"/>
              <a:ext cx="3885840" cy="1389960"/>
              <a:chOff x="2133720" y="2895480"/>
              <a:chExt cx="3885840" cy="1389960"/>
            </a:xfrm>
          </p:grpSpPr>
          <p:sp>
            <p:nvSpPr>
              <p:cNvPr id="518" name="Line 6"/>
              <p:cNvSpPr/>
              <p:nvPr/>
            </p:nvSpPr>
            <p:spPr>
              <a:xfrm>
                <a:off x="2133720" y="3550320"/>
                <a:ext cx="3885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19" name="Freeform 7"/>
              <p:cNvSpPr/>
              <p:nvPr/>
            </p:nvSpPr>
            <p:spPr>
              <a:xfrm>
                <a:off x="2448720" y="2895480"/>
                <a:ext cx="3150720" cy="1389960"/>
              </a:xfrm>
              <a:custGeom>
                <a:avLst/>
                <a:gdLst/>
                <a:ahLst/>
                <a:rect l="l" t="t" r="r" b="b"/>
                <a:pathLst>
                  <a:path w="4320" h="2880">
                    <a:moveTo>
                      <a:pt x="0" y="0"/>
                    </a:moveTo>
                    <a:cubicBezTo>
                      <a:pt x="312" y="1272"/>
                      <a:pt x="624" y="2544"/>
                      <a:pt x="1152" y="2592"/>
                    </a:cubicBezTo>
                    <a:cubicBezTo>
                      <a:pt x="1680" y="2640"/>
                      <a:pt x="2640" y="240"/>
                      <a:pt x="3168" y="288"/>
                    </a:cubicBezTo>
                    <a:cubicBezTo>
                      <a:pt x="3696" y="336"/>
                      <a:pt x="4008" y="1608"/>
                      <a:pt x="4320" y="28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20" name="Line 8"/>
              <p:cNvSpPr/>
              <p:nvPr/>
            </p:nvSpPr>
            <p:spPr>
              <a:xfrm>
                <a:off x="2807640" y="4079880"/>
                <a:ext cx="945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21" name="Line 9"/>
              <p:cNvSpPr/>
              <p:nvPr/>
            </p:nvSpPr>
            <p:spPr>
              <a:xfrm>
                <a:off x="4353840" y="3027600"/>
                <a:ext cx="839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22" name="Line 10"/>
              <p:cNvSpPr/>
              <p:nvPr/>
            </p:nvSpPr>
            <p:spPr>
              <a:xfrm flipH="1">
                <a:off x="4233600" y="2904840"/>
                <a:ext cx="808920" cy="30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23" name="Line 11"/>
              <p:cNvSpPr/>
              <p:nvPr/>
            </p:nvSpPr>
            <p:spPr>
              <a:xfrm>
                <a:off x="4528800" y="2904840"/>
                <a:ext cx="713880" cy="31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24" name="Line 12"/>
              <p:cNvSpPr/>
              <p:nvPr/>
            </p:nvSpPr>
            <p:spPr>
              <a:xfrm>
                <a:off x="2734560" y="3884400"/>
                <a:ext cx="839880" cy="34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25" name="Line 13"/>
              <p:cNvSpPr/>
              <p:nvPr/>
            </p:nvSpPr>
            <p:spPr>
              <a:xfrm flipV="1">
                <a:off x="2912400" y="3906720"/>
                <a:ext cx="945000" cy="34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526" name="Line 14"/>
            <p:cNvSpPr/>
            <p:nvPr/>
          </p:nvSpPr>
          <p:spPr>
            <a:xfrm>
              <a:off x="4059000" y="289548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5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Unit Overview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Introducing the Big 6: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56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Quadratic   </a:t>
            </a:r>
            <a:r>
              <a:rPr b="1" lang="en-US" sz="2000" spc="-1" strike="noStrike">
                <a:solidFill>
                  <a:srgbClr val="40458c"/>
                </a:solidFill>
                <a:latin typeface="Bradley Hand ITC"/>
              </a:rPr>
              <a:t>Sketching Techniqu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56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Cubic</a:t>
            </a: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Stencil"/>
              </a:rPr>
              <a:t>Generalizing       </a:t>
            </a:r>
            <a:r>
              <a:rPr b="0" lang="en-US" sz="2400" spc="-1" strike="noStrike">
                <a:solidFill>
                  <a:srgbClr val="40458c"/>
                </a:solidFill>
                <a:latin typeface="Impact"/>
              </a:rPr>
              <a:t>power function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Absolute Value 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Square Root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Exponential 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Linear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Object 4"/>
              <p:cNvSpPr txBox="1"/>
              <p:nvPr/>
            </p:nvSpPr>
            <p:spPr>
              <a:xfrm>
                <a:off x="4648320" y="5334120"/>
                <a:ext cx="3809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unction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notatio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175"/>
                            </p:stCondLst>
                            <p:childTnLst>
                              <p:par>
                                <p:cTn id="21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425"/>
                            </p:stCondLst>
                            <p:childTnLst>
                              <p:par>
                                <p:cTn id="22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225"/>
                            </p:stCondLst>
                            <p:childTnLst>
                              <p:par>
                                <p:cTn id="22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3950"/>
                            </p:stCondLst>
                            <p:childTnLst>
                              <p:par>
                                <p:cTn id="23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24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Arial"/>
              </a:rPr>
              <a:t>Guided Inquiry Activit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2522520"/>
            <a:ext cx="82296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7000"/>
          </a:bodyPr>
          <a:p>
            <a:pPr marL="58320" indent="-5832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Work collaboratively under well-defined guid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Make conclusions and conjectures based on exper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4"/>
          <p:cNvSpPr/>
          <p:nvPr/>
        </p:nvSpPr>
        <p:spPr>
          <a:xfrm>
            <a:off x="1676520" y="17524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 Student’s Ro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66"/>
                </a:solidFill>
                <a:latin typeface="Tahoma"/>
              </a:rPr>
              <a:t>Guided Inquiry Activiti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762120" y="32763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et clear rules for collaboratio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et time limit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ummarize points of the activity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Assess students’ understanding and modify lessons as necessary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990720" y="1676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Teacher’s Ro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539" name="Picture 5" descr="20060704kaisertop"/>
          <p:cNvPicPr/>
          <p:nvPr/>
        </p:nvPicPr>
        <p:blipFill>
          <a:blip r:embed="rId6">
            <a:lum contrast="-42000"/>
          </a:blip>
          <a:stretch/>
        </p:blipFill>
        <p:spPr>
          <a:xfrm>
            <a:off x="4952880" y="1371600"/>
            <a:ext cx="2629080" cy="1971720"/>
          </a:xfrm>
          <a:prstGeom prst="rect">
            <a:avLst/>
          </a:prstGeom>
          <a:ln w="0">
            <a:noFill/>
          </a:ln>
        </p:spPr>
      </p:pic>
      <p:sp>
        <p:nvSpPr>
          <p:cNvPr id="5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2T21:54:05Z</dcterms:created>
  <dc:creator>Ed_user</dc:creator>
  <dc:description/>
  <dc:language>en-US</dc:language>
  <cp:lastModifiedBy>LEGION</cp:lastModifiedBy>
  <dcterms:modified xsi:type="dcterms:W3CDTF">2017-07-06T06:34:21Z</dcterms:modified>
  <cp:revision>17</cp:revision>
  <dc:subject/>
  <dc:title>Function Transformations Unit</dc:title>
</cp:coreProperties>
</file>